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7091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E802-906F-48D0-9B6C-E3DE54827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D73D-4335-4FEF-B819-6CE0580D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3C7-3BEA-4999-8F78-D3B1D6DC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6A48-F89A-4D4D-AD1A-2E0F3CA7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F99BB-8030-4DAD-AD81-7F9AA783D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1C479-39D2-494B-BEB7-079EF00B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4781D-1240-4E6C-97B7-10B363990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A217-26DA-4BDA-AB41-92DDB36E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15F4-EA21-4488-AC92-C373813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78EE-9A60-41D3-A044-CC5FB2F0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2EA8-F444-4724-B3D0-C31956BB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11-E8A0-4D19-8F59-62B9063D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68421-F9B5-4347-A6E3-9D1B55E7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D821-3CF6-446D-A213-6A5E72EC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F9AC-CA07-481D-8EB5-429BEA13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B603-E8BD-412A-8185-9A129311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A8E-B2D7-4F6D-99CD-2F56A2499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BEC06-D623-44ED-9CB7-BEDCC6E0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70589-FC2C-4F8E-A21E-2611467D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0B60-5668-4106-A8D4-0DEE6BF72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FB6A0-91A0-499A-A75E-B52C64BE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43E89-2CF1-4848-81E1-DE18662D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B3F-BC16-4383-9B72-00C49A8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B8E7-A888-4B35-BD64-75C4FB303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3DFE-532D-4F5A-AC62-D30D5C63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4688-F86C-4E05-8B8E-8AAB352C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014B7-0B2E-4E16-ADB7-088CA973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2FFC0-1554-42F8-9FF6-FDAD098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F7420-DA95-42B1-A7AA-E79090751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0F44-C37D-4132-A8B0-2B5E289A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B7EB-1791-49C8-9AA3-CA27D820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86BDF-E8DF-4A9E-8BEC-6DBA2F54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6AA4-6B7B-4AE2-9E8E-5BEC698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FA70-9291-4257-A0F3-9F129CCEA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08A4D-0C26-4FEA-91BF-A6FAEF79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9BB01-A538-4BB6-9FC5-E9A22F0F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60DEB-5CD0-4B03-AB7E-2F1B61554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0D69A-4EA0-4650-A7EF-BCCA43D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5C48A-633B-4AF9-9C3B-81BFC95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DE5A0-DE68-46D9-BB01-71CF4C64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123E3-769C-4A52-9D2B-8440B694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A5BAA-1CAF-46A2-8046-CA2C4F6A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91C4-6FFD-400D-9314-2C241FFEB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49AA-E263-4FA1-BCB3-5C0DE835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397-9D28-4D29-802D-DF159B0A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02113-A8BA-4763-A3A2-E5EBEE24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08B53-2610-4BA9-BEE5-3C8D4A51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303B-DBB8-415F-83E1-D700711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28DBB-C90B-4259-A9EA-7E5485A5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F3924-346D-452E-A9AC-18602C89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6139A-1FB6-476F-9BDD-83D17898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6E30B-4DEB-4B80-9C17-774D7A34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E6AD2-0309-464E-9917-FB4EE79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0DD349-A3A9-4C1B-A98C-09E2CDE0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51601-5923-4599-960B-402A5CE7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7655-C29F-4668-A8DF-AB58158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EE642-D742-4D91-BF26-44A63C7F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A412D-53DF-4AC0-971C-382A3F77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4DAD5-0C10-434D-97F4-31F9F4EB4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3C03B2-2979-49FC-9E95-BC36938C2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18604-FC27-41E7-AC30-156A59A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A0E9DF-1298-4FFA-B045-9F77A468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93A60-9BFC-4B36-A651-B510A77AE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6379B-8462-4225-AB31-7222DDBF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64ABA7-01DD-4FB0-B641-B5D2C799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E9E4B-1686-4DFE-8AD2-7841E42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F810-C3AB-4362-9DFF-10346C2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3F8D-DF77-4BFF-9C85-C40465DE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97755-6A8F-40B5-A4C6-8E77425F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391C5D-D9F7-4DB1-A119-6BA76E3D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CEB2A-DDB7-4903-AF1D-9ACCA7FD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B69E8-0868-42B0-919F-563A8346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F02AF-C455-4EAB-B71E-723E1E93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5E4BF-3563-449F-B223-9AD4EEBE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4F2A-EE35-464F-8D81-DB443EA7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63393-836A-40FF-B6F0-308BC8C9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4477E-C813-43AE-8EEB-8845A42B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050C-4B17-46EE-B2F6-8C9D4174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A54A8-9898-44FE-9B0D-F81C30B4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95EA72-8370-4007-8F20-58EC5D21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2B6B6-21F6-4C8D-A855-FAF834E2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27F4B-60BB-4E4E-ABCB-96FDA37DD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14606-9529-4221-B67F-4806A003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E4B3B-76D5-4B8F-BBC3-97F36DEEA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801E1-DBF5-4043-A639-326BBED7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E4BE5-D41F-4153-83D7-4275C9CD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0D791-1662-487F-887B-14525DD9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22567-0081-4677-B687-C67E6B9CE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C51-FE75-4F27-9EE2-FDC78BDC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A8072-8788-433A-BFB7-BB8EB9846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383125-E517-47EE-AD4E-4FA768E0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2B19D-930D-4625-BBBA-B22C9CAF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E230A-3BA0-431C-AB37-17F95DB3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D4BDD-FDCE-4F5B-96EF-9280B905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9B073-4DF9-4375-8F53-8CC6D6219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96F28-63D2-4F51-B15F-F856447AD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4D486-2274-4D81-B345-2789D168A175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48e16"/>
              </a:gs>
              <a:gs pos="100000">
                <a:srgbClr val="b7ff8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1D72-6DD8-45FB-A148-470886C07E25}" type="slidenum">
              <a:rPr b="0" lang="ro-RO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A768-D77C-4703-AB17-7EA3DBD5DA84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548e16"/>
              </a:gs>
              <a:gs pos="100000">
                <a:srgbClr val="b7ff82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8240-C94E-400A-993B-CA1CBC93A5FB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262626">
                  <a:alpha val="1176"/>
                </a:srgbClr>
              </a:gs>
              <a:gs pos="100000">
                <a:srgbClr val="262626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5b5b5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dbdbd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0959-C346-4386-8BAF-EB5AB1F71034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FE40-1FF0-4F5D-81DB-D3B5E3C43D6D}" type="slidenum">
              <a:rPr b="0" lang="ro-RO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96CA8-C96E-46F3-9723-65DDFAA489CD}" type="slidenum">
              <a:rPr b="0" lang="ro-RO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81818"/>
            </a:gs>
            <a:gs pos="100000">
              <a:srgbClr val="71717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9ee71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a9ee71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92d05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92d05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b6dd9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2626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2626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900" spc="-1" strike="noStrike">
                <a:solidFill>
                  <a:srgbClr val="262626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900" spc="-1" strike="noStrike">
                <a:solidFill>
                  <a:srgbClr val="26262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747-98A8-4DB6-9443-D5B147EC8D7D}" type="slidenum">
              <a:rPr b="0" lang="ro-RO" sz="900" spc="-1" strike="noStrike">
                <a:solidFill>
                  <a:srgbClr val="2626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071200" cy="148140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2d050"/>
                </a:solidFill>
                <a:latin typeface="Haettenschweiler"/>
              </a:rPr>
              <a:t>Notre objectif est de proteger l’environement . Parce-que  si on continue comme ca on ves arriver detruire la Terre.</a:t>
            </a: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649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49" name="Picture 2" descr="C:\Users\Rozina\Downloads\DISTRUGERE.jpg"/>
          <p:cNvPicPr/>
          <p:nvPr/>
        </p:nvPicPr>
        <p:blipFill>
          <a:blip r:embed="rId2"/>
          <a:stretch/>
        </p:blipFill>
        <p:spPr>
          <a:xfrm>
            <a:off x="749160" y="3852720"/>
            <a:ext cx="3322800" cy="2724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http://www.universetoday.com/wp-content/uploads/2010/12/Air-Pollution.jpg"/>
          <p:cNvPicPr/>
          <p:nvPr/>
        </p:nvPicPr>
        <p:blipFill>
          <a:blip r:embed="rId3"/>
          <a:stretch/>
        </p:blipFill>
        <p:spPr>
          <a:xfrm>
            <a:off x="4797360" y="2365200"/>
            <a:ext cx="37432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4127760" cy="144432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41148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2d050"/>
                </a:solidFill>
                <a:latin typeface="Haettenschweiler"/>
              </a:rPr>
              <a:t>Dans le meilleur cas, l’industrie petroliere  n’existera  pas, en plus si on ne chassera  pas les animaux excessive , ca sera parfait.</a:t>
            </a: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3" name="TextBox 6"/>
          <p:cNvSpPr/>
          <p:nvPr/>
        </p:nvSpPr>
        <p:spPr>
          <a:xfrm>
            <a:off x="4716360" y="404640"/>
            <a:ext cx="3959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0000"/>
                </a:solidFill>
                <a:latin typeface="Chiller"/>
              </a:rPr>
              <a:t>Dans le pire cas</a:t>
            </a: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54" name="Picture 4" descr="http://t3.gstatic.com/images?q=tbn:ANd9GcRcYljMoXaD6CUH9eHd2Q4XdnAZQ4o1GbnrKdI1VLm4eccmh5m2Lg"/>
          <p:cNvPicPr/>
          <p:nvPr/>
        </p:nvPicPr>
        <p:blipFill>
          <a:blip r:embed="rId2"/>
          <a:stretch/>
        </p:blipFill>
        <p:spPr>
          <a:xfrm>
            <a:off x="250920" y="4653000"/>
            <a:ext cx="4244760" cy="1440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355" name="TextBox 8"/>
          <p:cNvSpPr/>
          <p:nvPr/>
        </p:nvSpPr>
        <p:spPr>
          <a:xfrm>
            <a:off x="4859280" y="1773360"/>
            <a:ext cx="41054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ndalus"/>
              <a:buChar char="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hiller"/>
              </a:rPr>
              <a:t> </a:t>
            </a:r>
            <a:r>
              <a:rPr b="0" lang="en-US" sz="3200" spc="-1" strike="noStrike">
                <a:solidFill>
                  <a:srgbClr val="c00000"/>
                </a:solidFill>
                <a:latin typeface="Chiller"/>
              </a:rPr>
              <a:t>Dans le pire de cas, les hommes qui continue de poluer vont creer un phenomene qui s’apelle le “rechauffement”: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56" name="Picture 2" descr="http://t2.gstatic.com/images?q=tbn:ANd9GcR2X-AMx3YnBWp3l-b1vcMyIkrYC__akOjha4Q2i8mN85pfWyOn5gF8pdeP"/>
          <p:cNvPicPr/>
          <p:nvPr/>
        </p:nvPicPr>
        <p:blipFill>
          <a:blip r:embed="rId3"/>
          <a:stretch/>
        </p:blipFill>
        <p:spPr>
          <a:xfrm>
            <a:off x="5456160" y="3809880"/>
            <a:ext cx="3237120" cy="43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On devrait: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Etaindre la lumiere et les appareils electriqu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Prendre une douche rapide sans laisser l’eau couler inutil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Trier et recycler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Voyager plus avec les transports commun  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Aller dans la foret pour planter des arbre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Haettenschweiler"/>
              <a:buChar char="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Choisir les sacs recyclable, pas les sacs de plastique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Haettenschweiler"/>
              </a:rPr>
              <a:t>	</a:t>
            </a:r>
            <a:r>
              <a:rPr b="0" lang="en-US" sz="3100" spc="-1" strike="noStrike">
                <a:solidFill>
                  <a:srgbClr val="92d050"/>
                </a:solidFill>
                <a:latin typeface="Haettenschweiler"/>
              </a:rPr>
              <a:t>La terre est ton responsabilite, aussi!!</a:t>
            </a:r>
            <a:endParaRPr b="0" lang="en-US" sz="31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  <a:p>
            <a:pPr marL="402840" indent="-344160">
              <a:lnSpc>
                <a:spcPct val="90000"/>
              </a:lnSpc>
              <a:spcBef>
                <a:spcPts val="700"/>
              </a:spcBef>
              <a:buClr>
                <a:srgbClr val="92d05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29:25Z</dcterms:created>
  <dc:creator>Rozina</dc:creator>
  <dc:description/>
  <dc:language>en-US</dc:language>
  <cp:lastModifiedBy>Rozina</cp:lastModifiedBy>
  <dcterms:modified xsi:type="dcterms:W3CDTF">2012-02-05T17:52:55Z</dcterms:modified>
  <cp:revision>4</cp:revision>
  <dc:subject/>
  <dc:title>Environnementalistes</dc:title>
</cp:coreProperties>
</file>